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77C-FA78-4921-AF24-45E9BE3F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240-A3E9-40C5-A283-0E212272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167-79B6-4FAA-9EA5-482EBC05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DE2-A9CE-44EA-9722-E02AE10C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214-248D-4779-8E1A-92E41361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5BA-73EF-4625-9DB1-5409514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856-06AC-42A4-825F-9A4519E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B32-D157-4E5F-9E19-D5D60ABD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7D5-D3D8-46C5-A5EA-AA9B671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11A-A832-479E-A4AC-9B9E4088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77E-D27B-4CEF-AE57-A8A14B9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21E-638D-471E-A66A-24ED4904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E79-B045-4BDA-A17A-38BD9B197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Multiplying matric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multiplication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matrices can be multiplied together if the number of columns of the first matrix is equal to the number of rows of the second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s of order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of order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n x p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then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 x B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ists and its order i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p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multiplying two matrices, we multiply the rows of the first matrix by the columns of the second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C, Q. 3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ces multiplication is not commutative, i.e. in general for two matrice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B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≠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B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xception is for the identity matrix,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I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, where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a square matrix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I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the identity matrix of the same order a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roperties of multiplication of 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212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B)C = A(B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 = A = 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+ B)C = AC + 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(A + B) = CA + C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ro matr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 = O = 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, Ex 16C, Q.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C, Q. 8, 10, 12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11:27Z</dcterms:created>
  <dc:creator>08843474</dc:creator>
  <dc:description/>
  <dc:language>en-US</dc:language>
  <cp:lastModifiedBy>08843474</cp:lastModifiedBy>
  <dcterms:modified xsi:type="dcterms:W3CDTF">2011-05-09T22:04:52Z</dcterms:modified>
  <cp:revision>4</cp:revision>
  <dc:subject/>
  <dc:title>Slide 1</dc:title>
</cp:coreProperties>
</file>